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FD27-4FB7-470B-878F-C0A48BC3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6E3F-E0E0-4F1D-A402-EC3E220C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8F29-CF11-42F2-A46D-19FE8D01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AFAA-96B1-41A9-A726-375FA230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E7A1-34B5-4789-8A7D-96F44A11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F0CD-0B23-4D44-9380-9E376B9F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933D-21C7-46DD-9825-7B633077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F4E4-ABEA-4AA3-A846-7A5FE200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CAC6-6A4B-455D-AE01-D0586CF0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29F3-6979-4D1C-802C-3E2DCB5B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F490-F719-4512-B8FA-6A48027A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563F-7BF4-4EAB-9BE4-BC088AB6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1534-0870-4805-A8EE-5B70B94E171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cc"/>
                </a:solidFill>
                <a:latin typeface="Garamond"/>
              </a:rPr>
              <a:t>La propagazione del cal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1915920"/>
            <a:ext cx="4929120" cy="30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Garamond"/>
              </a:rPr>
              <a:t>Il calore tende spontaneamente a propagarsi sia all’interno di un corpo solido sia all’interno di un flu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Garamond"/>
              </a:rPr>
              <a:t>I meccanismi di propagazione sono però diversi; conduzione, convenzione e irraggi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4360" y="-36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1" lang="it-IT" sz="4800" spc="-1" strike="noStrike">
                <a:solidFill>
                  <a:srgbClr val="ff0000"/>
                </a:solidFill>
                <a:latin typeface="Garamond"/>
              </a:rPr>
              <a:t>Convezione</a:t>
            </a:r>
            <a:br>
              <a:rPr sz="2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ttangolo 4"/>
          <p:cNvSpPr/>
          <p:nvPr/>
        </p:nvSpPr>
        <p:spPr>
          <a:xfrm>
            <a:off x="324000" y="3573360"/>
            <a:ext cx="8351640" cy="2724840"/>
          </a:xfrm>
          <a:prstGeom prst="rect">
            <a:avLst/>
          </a:prstGeom>
          <a:solidFill>
            <a:srgbClr val="00cc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Garamond"/>
              </a:rPr>
              <a:t>Il fenomeno che si vede è, infatti, dovuto al fatto che il liquido presente nella parte bassa del recipiente riscaldato si dilata e diminuisce di densità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Garamond"/>
              </a:rPr>
              <a:t>Per il principio di Archimede è, quindi,  spinto verso l’alto mentre il liquido più in alto, più freddo, scende verso il basso compensando lo spostamento del liquido che ris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Garamond"/>
              </a:rPr>
              <a:t>All’interno del recipiente si creano delle vere e proprie correnti chiamate </a:t>
            </a:r>
            <a:r>
              <a:rPr b="1" i="1" lang="it-IT" sz="2400" spc="-1" strike="noStrike">
                <a:solidFill>
                  <a:srgbClr val="000000"/>
                </a:solidFill>
                <a:latin typeface="Garamond"/>
              </a:rPr>
              <a:t>convettive.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ttangolo 5"/>
          <p:cNvSpPr/>
          <p:nvPr/>
        </p:nvSpPr>
        <p:spPr>
          <a:xfrm>
            <a:off x="826920" y="1700280"/>
            <a:ext cx="7417080" cy="1557000"/>
          </a:xfrm>
          <a:prstGeom prst="rect">
            <a:avLst/>
          </a:prstGeom>
          <a:solidFill>
            <a:srgbClr val="00cc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Garamond"/>
              </a:rPr>
              <a:t>Riempiendo un recipiente di vetro e versando al suo interno delle gocce di colorante, riscaldando il liquido si potranno  osservare le sue particelle muoversi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it-IT" sz="4400" spc="-1" strike="noStrike">
                <a:solidFill>
                  <a:srgbClr val="ffc000"/>
                </a:solidFill>
                <a:latin typeface="Garamond"/>
              </a:rPr>
              <a:t>Irraggiamento</a:t>
            </a:r>
            <a:br>
              <a:rPr sz="4400"/>
            </a:br>
            <a:br>
              <a:rPr sz="4400"/>
            </a:b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La propagazione del calore avviene in assenza di materia, come il sole propaga il calore sulla terra.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“Irraggiare” significa “emettere radiazioni”. Esse sono onde che si propagano nello spazio alla velocità della luce. 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Poiché queste radiazioni trasportano energia, quando investono un corpo e vengono assorbite, provocano un aumento di energia cinetica delle molecole e della temperatura.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La quantità di energia che un corpo assorbe per irraggiamento dipende molto dallo stato della sua superfic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Garamond"/>
              </a:rPr>
              <a:t>Condu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La </a:t>
            </a: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conduzione</a:t>
            </a: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 o </a:t>
            </a: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conduttività termica</a:t>
            </a: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 (indicata con </a:t>
            </a:r>
            <a:r>
              <a:rPr b="0" i="1" lang="it-IT" sz="3200" spc="-1" strike="noStrike">
                <a:solidFill>
                  <a:srgbClr val="ffffff"/>
                </a:solidFill>
                <a:latin typeface="Garamond"/>
              </a:rPr>
              <a:t>λ</a:t>
            </a: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 o </a:t>
            </a:r>
            <a:r>
              <a:rPr b="0" i="1" lang="it-IT" sz="32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) è il rapporto, fra il flusso di calore e il gradiente di temperatura che provoca il passaggio del cal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È la capacità di una sostanza di trasmettere il calore e dipende solo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dalla natura del materiale.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</a:rPr>
              <a:t>L'equazione generale della conduzione termica è espressa dalla </a:t>
            </a:r>
            <a:r>
              <a:rPr b="1" lang="it-IT" sz="3200" spc="-1" strike="noStrike">
                <a:solidFill>
                  <a:srgbClr val="000000"/>
                </a:solidFill>
                <a:latin typeface="Garamond"/>
              </a:rPr>
              <a:t>legge di Fourier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</a:rPr>
              <a:t> 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2000"/>
            </a:b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Q= calore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K= coefficiente di conducibilità termica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T2-T1= variazione di temperatura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delta t = variazione di tempo 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S= superficie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L= lunghez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55280" y="3573360"/>
            <a:ext cx="67057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Q = K \frac{(T_2 - T_1) \cdot S \cdot \Delta t}{L}"/>
          <p:cNvPicPr/>
          <p:nvPr/>
        </p:nvPicPr>
        <p:blipFill>
          <a:blip r:embed="rId1"/>
          <a:stretch/>
        </p:blipFill>
        <p:spPr>
          <a:xfrm>
            <a:off x="1692360" y="2205000"/>
            <a:ext cx="468000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7772400" cy="55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e sostanze che conducono bene il calore sono chiamate conduttori termici come ad esempio i metal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Le sostanze che conducono male il calore invece sono chiamate isolanti termici, per esempio il legno e l’ acq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I buoni conduttori termici hanno coefficiente di conducibilità grande, mentre gli isolanti più picco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Per l’aria il coefficiente di conducibilità è trascurabile pari a: 0,025W/(m * K) a °C mentre l’acqua è: 0,6W/(m * 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Garamond"/>
              </a:rPr>
              <a:t>Esperi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000" y="1052280"/>
            <a:ext cx="8280360" cy="45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Materi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ue pallonc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Una fonte di calore ( candela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c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8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Gonfiamo 2 palloncini, uno con dell’ aria, il secondo lo riempiremo d’ acqua. Li poniamo entrambi sopra la fiamma della candela.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Noteremo che il palloncino vuoto scoppierà dopo pochi istanti mentre quello con al suo interno l’ acqua non subirà nessun cambiamento. 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 Perché?</a:t>
            </a:r>
            <a:br>
              <a:rPr sz="2800"/>
            </a:b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Garamond"/>
              </a:rPr>
              <a:t>Come affermato precedentemente, l’ acqua ha una conducibilità termica maggiore di quella dell’aria, e quindi il palloncino non fa in tempo a sciogliersi ed a scoppiare perché l’ acqua assorbe subito il calore fornito dalla fiamma.</a:t>
            </a: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tente</dc:creator>
  <dc:description/>
  <dc:language>en-US</dc:language>
  <cp:lastModifiedBy>Laura Polenta</cp:lastModifiedBy>
  <dcterms:modified xsi:type="dcterms:W3CDTF">2011-05-13T19:17:16Z</dcterms:modified>
  <cp:revision>31</cp:revision>
  <dc:subject/>
  <dc:title>PowerPoint Presentation</dc:title>
</cp:coreProperties>
</file>